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gif" ContentType="image/gif"/>
  <Override PartName="/ppt/media/image8.wmf" ContentType="image/x-wmf"/>
  <Override PartName="/ppt/media/image12.wmf" ContentType="image/x-wmf"/>
  <Override PartName="/ppt/media/WtchLaff.wav" ContentType="audio/x-wav"/>
  <Override PartName="/ppt/media/image7.wmf" ContentType="image/x-wmf"/>
  <Override PartName="/ppt/media/hersheyb.wav" ContentType="audio/x-wav"/>
  <Override PartName="/ppt/media/image11.wmf" ContentType="image/x-wmf"/>
  <Override PartName="/ppt/media/image6.wmf" ContentType="image/x-wmf"/>
  <Override PartName="/ppt/media/image10.wmf" ContentType="image/x-wmf"/>
  <Override PartName="/ppt/media/image22.gif" ContentType="image/gif"/>
  <Override PartName="/ppt/media/image5.wmf" ContentType="image/x-wmf"/>
  <Override PartName="/ppt/media/image3.wmf" ContentType="image/x-wmf"/>
  <Override PartName="/ppt/media/image2.jpeg" ContentType="image/jpeg"/>
  <Override PartName="/ppt/media/AuldLang.wav" ContentType="audio/x-wav"/>
  <Override PartName="/ppt/media/image4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68E-193A-475A-93F2-ABD06F6A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4B9-819F-4E96-8E0B-B7D70B6B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C42-A8DD-4209-B644-3F9546CD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45E-2EED-4701-96EC-45408B3C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7DD7-DDCE-4E07-B76A-38FC7BD4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BAA8-909C-436D-8296-95EA248C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D0B5-A8C8-4412-BCD4-06D6052B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E661-F319-4C2E-AA03-33A20429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3ABB-DEBF-4371-80AD-D8D34D2A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9706-CF6F-4D68-A5AA-7CFA8AF1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E6BC-EC2A-487F-987B-1387C6CF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562-8D0F-4C2D-A0EF-D79CD242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6404-2297-4835-8AC2-6DBA4464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C78A-F2AE-449C-A965-4AA8038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9898-6268-43A2-8504-44E16BA9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CD0A-9F2E-4093-BDB0-8CE19E7C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9E97-EEDC-4472-AED5-2AF0D354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680-EEA4-46DE-BC68-154A0B22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982-9D41-4D4A-8CAB-AF3B22AA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45F-6FFB-4AD7-AEDF-D7638A3A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B9C-6988-4D41-B81C-FD97AEFB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883-4617-44C7-9392-B7355A95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350-3C74-46CF-AD2D-1B166F76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02F-A53D-48F7-B74A-B98DCB4F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C9D3-7766-4ACB-AF90-C2E047333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61F1-380B-4CD3-A504-255798E58C8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WtchLaff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hershey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AuldLan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447560"/>
            <a:ext cx="6019920" cy="23619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Traditions and </a:t>
            </a:r>
            <a:br>
              <a:rPr sz="4800"/>
            </a:b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Customs in Great Britain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London Marath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biggest marathon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Each year about 30,000 people start the race and about 25,000 fin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aise money for ch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78360" y="1981080"/>
            <a:ext cx="2691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ay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a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to celebrate the end of winter and welcome 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dance around the maypole and sing so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2219400"/>
            <a:ext cx="3733920" cy="363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elsea Flower Show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ain’s most important flower and garden s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ousands of people come to see the prize flowers and specially built gard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03760" y="1981080"/>
            <a:ext cx="3040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idsummer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ne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ummer sols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tay up until midnight to welcome in midsummer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hen the fires die down, men run or jump through it to bring good lu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689120" cy="334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2103480" cy="173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rooping The Colou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second Saturday in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elebrates the Queen’s official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Lots of marching, military music and the soldiers are dressed in colourful uni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1752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Swithin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ly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aint Swithin was England’s Bishop of Winche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40 days of bad weather will follow if it rains on thi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57800" y="1981080"/>
            <a:ext cx="19335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Wimbled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 of July and the first week of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Wimbledon in South-West Lond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four great world tennis championships and the only one which is played on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2070000"/>
            <a:ext cx="3733920" cy="393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otting Hill Carnival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end in Augu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akes place in Notting 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in fabulous costu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teel bands play African and Caribbean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rvest Festivals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Sept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Christian fest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was held to say thank you to God for a good harv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urches are decorated with fruit, vegetables and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2055960"/>
            <a:ext cx="3733920" cy="396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llowee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cto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celebrates the return of the souls that visit their former ho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as witches, ghos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ouses are decorated with pumpk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2090880"/>
            <a:ext cx="3733920" cy="389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WtchLaff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000000"/>
                </a:solidFill>
                <a:latin typeface="Script MT Bold"/>
              </a:rPr>
              <a:t>Januar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New Year’s Day (Jan 1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he beginning of the new year. People make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Twelfth Night (Jan 6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 party after the Christmas break and before the return to work in the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uy Fawke’s Night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ovemb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e was a terro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day marks the discovery of a plot to blow up Parliament in 16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make models of him and burn them on big bonf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2433600"/>
            <a:ext cx="373392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ristma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ligious ceremony commemorating the bir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wake up early to find presents in their stock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 Christmas tree and di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419720" cy="296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hersheyb.wav"/>
      </p:stSnd>
    </p:sndAc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Boxing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is usually spent in front of the TV, recovering from Christma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ervants go from house to house with collecting bo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57800" y="278136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ew Year’s Eve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ly Scottish celeb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midnight everybody joins hands and sings Auld Lang Sy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57800" y="2529000"/>
            <a:ext cx="3733920" cy="301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AuldLang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rufts Dog Show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Febru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Valuable dogs from all over the world compete in Birmingh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best dog gets the title Crufts Supreme Champ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56360" y="2092320"/>
            <a:ext cx="3735360" cy="389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Valentine’s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February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as started in the time of Roman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s dedicated to St. Valen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end a card to someone they love, like, fancy or adm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99320" y="1981080"/>
            <a:ext cx="2449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Boat Race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rowing race between the universities of Oxford and Cambri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 the river Thames in London (7,2 k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2735280"/>
            <a:ext cx="373392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Pancake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day before 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ancake race-running while holding a pancake in a frying pan. Competitors have to throw it in the air and catch it again in the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2494080"/>
            <a:ext cx="3733920" cy="3089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April Fool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pril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day of practical jo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You have to play the joke before 12 o’clock midday, otherwise the joke is on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221148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ood Fri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Friday before E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hurch marks the dea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ish usually eat hot-cross buns, which are marked on top with 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3400" y="1981080"/>
            <a:ext cx="26812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Easte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Apr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elebration of the Resurrection of Chr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chools are closed for two w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give each other chocolate eggs that are wrapped in silver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81640" y="1447920"/>
            <a:ext cx="35337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6:17:02Z</dcterms:created>
  <dc:creator>kasutaja15</dc:creator>
  <dc:description/>
  <dc:language>en-US</dc:language>
  <cp:lastModifiedBy>powerful</cp:lastModifiedBy>
  <dcterms:modified xsi:type="dcterms:W3CDTF">2012-04-17T16:07:37Z</dcterms:modified>
  <cp:revision>21</cp:revision>
  <dc:subject/>
  <dc:title>Traditions and  Customs in Great Britain</dc:title>
</cp:coreProperties>
</file>